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CA1-C7C8-4829-98D6-FC6024C1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7CC-1EEF-4B2F-8C33-C6A25548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3EB-D625-4215-AA43-4AB6B302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D1D-4A7B-4869-9A5A-B8AD4BA5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0E44-606F-467E-9305-D2A00A1B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944A-0876-4BF3-982B-0C816973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6C89-A90D-46C1-AAFA-06493B0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20CF-D6EE-45D3-A113-C57B35A4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9814-997C-4B3E-A70F-56BF20C5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E666-840D-4B92-A551-1D6358E6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6F57-132A-4EAD-92AE-9679282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094-515E-4302-9D54-10CA8AD8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DE6C-DFD0-4AC8-8B78-BCC50D7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6B69-4132-43E8-8013-D838388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A1D2-88B8-40B7-AE5E-0FBF17F5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F25C-FB26-45C8-8FAA-346E169B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AC80-591A-438A-8612-3D442FEC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FA6-048F-4A34-8235-A1C47066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3EB-1804-4441-B7CB-BB1C33B7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A97-E2CF-4E86-B254-E57949D2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BD5-A86E-41FC-AA19-38459CE1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753-EAA8-46A4-9049-C860B89C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369-511F-43F6-9BF9-D881BAD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B0D-2514-4CDF-AF0B-B40336FA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024A-280A-4526-9C9D-B93E0ECB03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5A18-DD93-4F01-A3DF-077EF51488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munity Medicin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ving towar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ngitudinal Curriculu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181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ita Kalra 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uly 9, 20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88920"/>
            <a:ext cx="1793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2304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990720" y="-68580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960480" y="-70488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vious Curriculu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or to 2009-2010 academic year: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2 week blo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09-2010 academic yea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Continued 2 week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b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is new for 2010-2011 Academic Yea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1: 2 half days on BM, Ortho, and 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3:  Track E, MOP, Jeopardy with 2 half days 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d the Survey Says…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Group Based Project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Continue with Exposure to Public Health System/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3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3 Main Groups Establish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MC/Wellness/Lifestyle Change Pro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Health: Adolescent Sexual Heal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rea School Outr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uture of C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in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Impr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my current projec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Global Health Based Projec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05:10:54Z</dcterms:created>
  <dc:creator>skalra</dc:creator>
  <dc:description/>
  <dc:language>en-US</dc:language>
  <cp:lastModifiedBy>skalra</cp:lastModifiedBy>
  <dcterms:modified xsi:type="dcterms:W3CDTF">2010-07-09T06:29:10Z</dcterms:modified>
  <cp:revision>6</cp:revision>
  <dc:subject/>
  <dc:title>Slide 1</dc:title>
</cp:coreProperties>
</file>